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6C0-7DC0-40D5-971A-B3266FD8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09F-8D75-4F31-BF44-F8597D16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1B7-8E86-407D-9CB7-577074DD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A2E-9825-4238-AF7A-21822314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F64D-716B-4D33-9A8C-E6DF924F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4E42-95FB-4522-9284-8F673970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4CCF-B14B-4EEF-B8B0-5ACEDC7A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54DF-C4FA-453F-A45E-0838BBA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1C65-8F63-4F02-B726-12105C4D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DA75-E57A-4D05-8AA0-FE891510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9B29-65F1-4A67-8ABF-0FD7C725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9AD-4A9A-4903-ACB1-4CAE6766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6E9E-CFF7-49B8-86F3-010C281C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6E3C-C99E-4B9C-8A02-7454DD88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3416-1B15-4779-B323-3FD2C79C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E500-A641-4B5E-A540-9BB59338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0CE8-F889-4377-83BB-CAE8A518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C50-6A63-498C-997C-92229526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FD2-4C04-4FD0-8E93-4EE7CD7F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20D-F4C4-47E5-8405-B143BCD2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04E-B287-414B-B24E-37D0110E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9F5-0350-46B2-AA20-1C791907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11E-DA00-4E58-9A21-26732BD9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3E4-276E-42A9-B54F-425F5C0F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57F8-85C8-4A5F-B249-B61081B9F6B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F7D6-53D1-4211-B24E-3CF9BAF5A64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62120" y="304920"/>
            <a:ext cx="601956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lectronic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levision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6095880" y="4532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Kayla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ptember 27,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7</a:t>
            </a:r>
            <a:r>
              <a:rPr b="0" lang="en-US" sz="1800" spc="-1" strike="noStrike" baseline="30000">
                <a:solidFill>
                  <a:srgbClr val="ffcc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 3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514600" y="64911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5791320"/>
            <a:ext cx="4495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usic: Free Play Music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Dance Pop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, 10/4/10,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www.freeplaymusic.com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vention: Electronic Televi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invention sped in television imaging to high definition in London 1936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invention was used in times of World war 2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was broadcasted in the US. In 1941 with color transmissio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ventor: Philo T. Farnswort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hilo Farnsworth was born in Utah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made the first all- electronic television at age 15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demonstrated it in San Francisco and many more plac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never abandon his dream of making the electric television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arnsworth was interested in molecular theory, motors, and novel devic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arnsworth died from pneumonia before he completed his fusion work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he died his TV sets sold about 100 times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Farnsworth"/>
          <p:cNvPicPr/>
          <p:nvPr/>
        </p:nvPicPr>
        <p:blipFill>
          <a:blip r:embed="rId1"/>
          <a:srcRect l="0" t="0" r="71160" b="0"/>
          <a:stretch/>
        </p:blipFill>
        <p:spPr>
          <a:xfrm>
            <a:off x="0" y="0"/>
            <a:ext cx="2590920" cy="28954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Farnsworth"/>
          <p:cNvPicPr/>
          <p:nvPr/>
        </p:nvPicPr>
        <p:blipFill>
          <a:blip r:embed="rId2"/>
          <a:srcRect l="27349" t="0" r="0" b="0"/>
          <a:stretch/>
        </p:blipFill>
        <p:spPr>
          <a:xfrm>
            <a:off x="2590920" y="2666880"/>
            <a:ext cx="6553080" cy="28544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04920" y="5638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Philo Farnsworth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, September 29, 2010 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http://web.mit.edu/invent/iow/farnsworth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9Z</dcterms:created>
  <dc:creator>install</dc:creator>
  <dc:description/>
  <dc:language>en-US</dc:language>
  <cp:lastModifiedBy>install</cp:lastModifiedBy>
  <dcterms:modified xsi:type="dcterms:W3CDTF">2010-10-13T17:50:54Z</dcterms:modified>
  <cp:revision>11</cp:revision>
  <dc:subject/>
  <dc:title>Slide 1</dc:title>
</cp:coreProperties>
</file>